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890-32BB-469A-B30A-631C64D6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0C5-0A61-4888-A5C6-2B3588F9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10EE-698A-4C08-B5A1-3FBF4D1C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3CA-6853-44DF-AAF7-7CEF9FE0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4FA-0571-4316-9D03-024D2000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9AA-2363-4E54-ACDB-CC77935A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27C0-E471-4D36-9B72-02B12EE7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837-3ECE-4B5B-9CDE-30FF4F1C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42E-EE32-4745-B270-03703920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236E-B81F-4795-AA54-88A90730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CCA-7A19-41AC-85FB-616425BB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A4E-0A30-4F9F-808B-4658AC72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7AA-5D8F-4257-A67B-2234151AC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пизодна бесвесна 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ц др Татјана Вул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копа услед обољења ЦН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ковима изазвана син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копе услед метаболичких поремећаја – дијабетичари лечени инсулином, праћено трмором, осећајем глади, знојењ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д крвн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лед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зној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убитак св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 чему је болесник непокретан, са успореним плитким дисањем, сачуваним тонусом сфинктера, једва пипљивиг или не пипљивог пулса на периферним крвним судо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синкопа стање које се дефинише као плажи облик поремећаја прфузије мозга, понекад предходи синкопи, а јавља се у облику несвестице, слабости, поремећаја вида, и немогућности одржавања усправног полож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амнеза, објективног налаза, и резултата допунских лабораторијских испит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рење ТА у лежећем и седећем положа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 потреби се моге радити EHO, EKG, E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 основу прегледа КВС и неуролошког прегледа и EKG  може се извршити класификација на оне са КВС или без ње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ављање пацијента у лежећи положај са подигнутим доњим екстремитетима прекида синкоп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узроке укло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но је умити пацијента хладном 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дикаментна терапија није потребна уколико не познајемо тачан узрок синк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ечење примарног узрока домен је лекара специјали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 правилу прогноза код младих особа без КВС поремећаја је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д старијих особа прогноза зависи од узрока несвест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ЖДАНИ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настат због исхемије ( тромбоза, артеријска емболизација) или пак због крвар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 резултат захваћено подручије мозга не функционише што резултује немогућнош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ања једног или више екстремитета, немогућности разговетног говора, или немогућности вида, понекад изненадна јака главоб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ева хитну медицинску помоћ јер може да  доведе до трајних неуролошких оштећења, компликација и см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но препозн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главном изнена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мптоми зависе од захваћеног подручија моз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 проток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 Face, Arm, Speech,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абост лица, пад руке, успорен и отежан 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ез контрасног појач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ечење домен специјал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СТЕРИЧНИ НА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ада у неурозе и одликује се изразитим симпто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иње са боловима у неком делу тела, лупањем срца, тешкоћама вида и променом располож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иза се наставља губитком свести и падом са грчењем и трзајима са хистеричним лу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еди кулминација са крицима јасно или нејасно изговореним речима, кркљањ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пад траје 15-ак минута и завршава се осећајем у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копа је синдром који се дефинише као изненадни, пролазни губитак свести, који настаје услед поремећене перфузије моз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ледица хипоксије настале услед смањеног протока крви и допремања кисеоника моз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нови лежи психичка незрелост нарочито у области осећ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стерични напад може се прекинути и порилично поправити међутим хистерични карактер који је подлога овим реакцијама остаје и после напада и његово лечење нјие ни мало једностав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уб постипак или тврдња да је нека особа хистерична само погоршава болесниково ста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ПИ НАП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 одговор на ненормално електрично пражњење у моз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зависности од тога на ком месту у мозгу је дошло до поремећаја јављају се различити типови епи нап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 стање које доводи до поремећаја у снадбевњу мозга кисеоником ( траума, мањи ожиљк, тумор, крварење метаболички поремећаји у мозгу..) може довести до епи нап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цијални епи напад почиње у малом подручију мозга и углавном не доводи до губитка с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енерализовани напад почиње у већем делу мозга, најчешће је тзв. Гранд мал долази до губитка свести, грчења мишића  руку и ногу, целог тела и на крају угриз и неконтролисано мокрење. Пацијент поплави у 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паду често претходи аура ( необични осети укуса, мириса, вида или наглешен осећај да ће доћо до напа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пад обично траје 2-5 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 престанку присутна је главобоља, болови у мишићима, збуњеност, јак 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препознати епи нап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итно је присуствовати нападу или опис особе која је присуствов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EG CT NMR су дијагностичке процедуре којима се откривају промене у структури моз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и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нкопа-узроци наст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јагностичке процеду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рапија (третман) несвесног ст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пи напад-киничка с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дани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стеричан напад- клиничка с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лике између наведених несвесних ст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аболизам мозга зависи искључиво од перфузије, те поремећени церебрални проток крви у трајању од 10-15 секунди доводи до губитка св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УЗРОК НАСТАНКА СИНК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оји већи број етиолошких фактора који могу да доведу до настанка синко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ктори од стране КВ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итмиј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адиаритмије ( испод 30-35 откуцаја/ минути), болест синусног чвора; АV блок II, AV блок III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хиаритмије( &gt;150-180 откуцаја/ минути) вентрикуларна и суправентрикуларана тахикард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ктори од стране КВ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струкција или редукција тока крви: аортна стеноза, митрална стеноза, хипертрофична опструктивна миокардиопатија, плућна хипертензија,плућна емболија,нестабилна ангина пекторис, инфаркт миокарда, срчана тампонада, дисекација анеур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Остали узроци синкоп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Вазовагалнана синкоп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(КОЛАПС) подтакнуто типично неугодним физичким или психичким надражајем (бол, страх, поглед на крв) или предугим стајањем у загушљивој просториј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ханизам настанка је рефлексно успорење срчаног ритма и ширење крвних судова на периферији. Почетак васовагалне синкопе је поступан и често праћен мучнином, бледилом, хладним знојем и замућењем ви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Ортостатска хипотензиј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губитак свести при наглом устајању из седећег или лечећег положаја. Настаје као неадекватан одговор вазомоторног рефлекса да повећа ТА. Чешће се јавља код старијих особа и код предозирања лекова за крвни притиса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8T16:35:21Z</dcterms:created>
  <dc:creator>Info</dc:creator>
  <dc:description/>
  <dc:language>en-US</dc:language>
  <cp:lastModifiedBy>Info</cp:lastModifiedBy>
  <dcterms:modified xsi:type="dcterms:W3CDTF">2015-03-08T18:19:13Z</dcterms:modified>
  <cp:revision>9</cp:revision>
  <dc:subject/>
  <dc:title>Епизодна бесвесна стања</dc:title>
</cp:coreProperties>
</file>